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6A1-4AB1-4B9F-A98B-8DB176A6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9CC-F404-4E83-BA4C-D19E392C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CD1-C095-4F5A-BCAF-E3F3904F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3CE-ABE1-4018-8A74-62AE9CA0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393-7448-4494-8069-5AC47A72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EE0-861D-4921-B167-EE149439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53B-1194-40CB-B45E-02C00C98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664-3BAE-4C7C-9783-54A7DCF2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858-23C3-4C7C-8899-3138470C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688-7B0C-4C52-A915-6A50EA90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A6E-EF61-44D1-89B9-1509BEB5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F24-5C67-43AF-AC51-5E50029F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8A32-6A8C-4019-9ACA-8FC45F307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Desktop\0751765c1412c57af2d67cf5c5c68beb.jpg"/>
          <p:cNvPicPr/>
          <p:nvPr/>
        </p:nvPicPr>
        <p:blipFill>
          <a:blip r:embed="rId1"/>
          <a:stretch/>
        </p:blipFill>
        <p:spPr>
          <a:xfrm>
            <a:off x="6480" y="6480"/>
            <a:ext cx="9137520" cy="68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284655160_zen_bomber_p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fbfa55f487a7a59ce024438091cfe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248904176_voina"/>
          <p:cNvPicPr/>
          <p:nvPr/>
        </p:nvPicPr>
        <p:blipFill>
          <a:blip r:embed="rId1"/>
          <a:srcRect l="19333" t="0" r="0" b="0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addf4737bdd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384639943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20120515070635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58216491_DP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0058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efbfa55f487a7a59ce024438091cfe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__________-____-____________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68a128s-960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fbfa55f487a7a59ce024438091cfe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velikolepn_zhizn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0" name="налёт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3:15:37Z</dcterms:created>
  <dc:creator>Учитель</dc:creator>
  <dc:description/>
  <dc:language>en-US</dc:language>
  <cp:lastModifiedBy>Пользователь</cp:lastModifiedBy>
  <dcterms:modified xsi:type="dcterms:W3CDTF">2020-03-04T05:05:1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