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7C2D-B840-4AA4-BA6E-6DF0A584A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8E37-4615-4732-B5E0-60F4147A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7C3E-FD44-45A4-96F5-77AE1ECFF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C6C1-3976-47F4-BCC6-4DDE0E03F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4AB72-0171-4F01-AE81-40D5484CE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9176-FC75-471A-A336-F4C476B3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137DE-D77B-42AD-A58E-16EE896F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95C6-46CE-4410-999D-D4BC9062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6F2A-2360-4499-A3CA-9560DA5D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4A9F9-8018-4020-A306-9B486528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FBEE-F8C5-4BE5-920B-132BBE35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53DB-E41A-4093-BFE9-9ADF812A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5D2C-80CB-4AAE-88E9-C2D32C05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53A0-EC21-4199-B00E-C0A7E471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76B9-2F6A-4D4E-9A35-DDBAE962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FEFE-3482-43CA-9EE6-528E6C502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545B-05A4-4859-9FAE-5E1102B18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251B-FFB1-42C6-81C6-98185360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8EA8-5A08-45F3-9982-3BE16288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BD5D-0163-4956-B656-E1B94FD8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64E6-6D00-4BE7-8F5D-296AD117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B527-AD43-45D4-B0A5-8CEB0CB1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7122-CAF8-4BB2-9679-C54D23D6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95C3-7FA0-4879-A4F5-49ADAE9A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088E-6785-4CB7-90EF-A107073E6D5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5E63-28A3-4123-A061-D53195C5E7C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0033"/>
                </a:solidFill>
                <a:latin typeface="Times New Roman"/>
              </a:rPr>
              <a:t>Пищеварение в ротовой полости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642920" y="3933360"/>
            <a:ext cx="37753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изова Н.,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 биоло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сше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У «Атемарская СОШ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тить зубы ежедневно утром и перед с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еды полоскать рот и пользоваться зубной палочкой или ни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бходимо иметь индивидуальную зубную щётку и менять её через каждые 3-4 меся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следует применять для чистки зубов растворы кислот и щелоч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ые 6 месяцев необходимо проходить осмотр у стоматоло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жевании необходимо пользоваться равномерно…………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грызите зубами ……..и не ковыряйте в зубах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употребляйте сразу после горячей пищи…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7034040" y="0"/>
            <a:ext cx="1810080" cy="191628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5"/>
          <p:cNvSpPr/>
          <p:nvPr/>
        </p:nvSpPr>
        <p:spPr>
          <a:xfrm>
            <a:off x="755640" y="333360"/>
            <a:ext cx="6624720" cy="9144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1166760" y="549360"/>
            <a:ext cx="564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авила ухода за зуб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71280" y="3429000"/>
            <a:ext cx="60483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8" name="Picture 3" descr="j0299125"/>
          <p:cNvPicPr/>
          <p:nvPr/>
        </p:nvPicPr>
        <p:blipFill>
          <a:blip r:embed="rId1"/>
          <a:stretch/>
        </p:blipFill>
        <p:spPr>
          <a:xfrm>
            <a:off x="6937200" y="2708280"/>
            <a:ext cx="2206800" cy="23032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 flipH="1" flipV="1">
            <a:off x="1241280" y="16200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1042920" y="404640"/>
            <a:ext cx="7274160" cy="9144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ветьте на вопрос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755640" y="1700280"/>
            <a:ext cx="5977080" cy="2233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чему над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щательно пережевы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ищу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826920" y="4076640"/>
            <a:ext cx="6480360" cy="2448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2031840" y="4384800"/>
            <a:ext cx="4411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чему плантато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и покупке раб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бязательно осматривали их зубы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ьте тест из 5-6 вопросов по теме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формите несколько кадр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рекламного ролика» по тема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охранение зуб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гиена ротовой пол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ьтернативная рекла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как нельзя дела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900000" y="404640"/>
            <a:ext cx="7417080" cy="9144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1311120" y="476280"/>
            <a:ext cx="47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0"/>
          <p:cNvSpPr/>
          <p:nvPr/>
        </p:nvSpPr>
        <p:spPr>
          <a:xfrm>
            <a:off x="7667640" y="2637000"/>
            <a:ext cx="720720" cy="93492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ята, что нового вы узнали сегодня на урок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годятся ли эти знания в жиз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умайте вместе с соседом и выразите свои впечатления об уроке одним сло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6d26a7215e1e"/>
          <p:cNvPicPr/>
          <p:nvPr/>
        </p:nvPicPr>
        <p:blipFill>
          <a:blip r:embed="rId1"/>
          <a:stretch/>
        </p:blipFill>
        <p:spPr>
          <a:xfrm>
            <a:off x="4788000" y="4076640"/>
            <a:ext cx="2560680" cy="258300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5"/>
          <p:cNvSpPr/>
          <p:nvPr/>
        </p:nvSpPr>
        <p:spPr>
          <a:xfrm>
            <a:off x="971640" y="476280"/>
            <a:ext cx="7129440" cy="9144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1384200" y="512640"/>
            <a:ext cx="578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1700280"/>
            <a:ext cx="5145120" cy="32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3311640" y="1844640"/>
            <a:ext cx="5832360" cy="48261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Берегите здоровь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берегите зубы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едь здоровые зубы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это здоровый организ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8" descr="gnom29"/>
          <p:cNvPicPr/>
          <p:nvPr/>
        </p:nvPicPr>
        <p:blipFill>
          <a:blip r:embed="rId1"/>
          <a:stretch/>
        </p:blipFill>
        <p:spPr>
          <a:xfrm>
            <a:off x="755640" y="1628640"/>
            <a:ext cx="2382840" cy="4332600"/>
          </a:xfrm>
          <a:prstGeom prst="rect">
            <a:avLst/>
          </a:prstGeom>
          <a:ln w="0">
            <a:noFill/>
          </a:ln>
        </p:spPr>
      </p:pic>
      <p:sp>
        <p:nvSpPr>
          <p:cNvPr id="168" name="Line 9"/>
          <p:cNvSpPr/>
          <p:nvPr/>
        </p:nvSpPr>
        <p:spPr>
          <a:xfrm>
            <a:off x="2050920" y="2205000"/>
            <a:ext cx="720720" cy="93492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крыть процесс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щеварения в ротовой пол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крыть роль ферментов в этих процесс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формировать знания о значении и строении зуб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воить правила ухода за зуб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900000" y="404640"/>
            <a:ext cx="6985080" cy="9144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203640" y="44136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ели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image"/>
          <p:cNvPicPr/>
          <p:nvPr/>
        </p:nvPicPr>
        <p:blipFill>
          <a:blip r:embed="rId1"/>
          <a:stretch/>
        </p:blipFill>
        <p:spPr>
          <a:xfrm>
            <a:off x="7067520" y="4292640"/>
            <a:ext cx="2076480" cy="23810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Назовите органы пищеварительного канала и пищеварительные железы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5" name="Picture 9" descr="пищеварительная система"/>
          <p:cNvPicPr/>
          <p:nvPr/>
        </p:nvPicPr>
        <p:blipFill>
          <a:blip r:embed="rId1"/>
          <a:stretch/>
        </p:blipFill>
        <p:spPr>
          <a:xfrm>
            <a:off x="3203640" y="2492280"/>
            <a:ext cx="3174840" cy="2597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бавь недостающее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07" name="Organization Chart 7"/>
          <p:cNvGrpSpPr/>
          <p:nvPr/>
        </p:nvGrpSpPr>
        <p:grpSpPr>
          <a:xfrm>
            <a:off x="179280" y="2346480"/>
            <a:ext cx="8784720" cy="4137480"/>
            <a:chOff x="179280" y="2346480"/>
            <a:chExt cx="8784720" cy="4137480"/>
          </a:xfrm>
        </p:grpSpPr>
        <p:cxnSp>
          <p:nvCxnSpPr>
            <p:cNvPr id="108" name="_s1028"/>
            <p:cNvCxnSpPr>
              <a:stCxn id="109" idx="0"/>
              <a:endCxn id="110" idx="2"/>
            </p:cNvCxnSpPr>
            <p:nvPr/>
          </p:nvCxnSpPr>
          <p:spPr>
            <a:xfrm flipV="1" rot="16200000">
              <a:off x="5694840" y="2877120"/>
              <a:ext cx="828000" cy="3075480"/>
            </a:xfrm>
            <a:prstGeom prst="bentConnector3">
              <a:avLst>
                <a:gd name="adj1" fmla="val 1378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1029"/>
            <p:cNvCxnSpPr>
              <a:stCxn id="112" idx="0"/>
              <a:endCxn id="110" idx="2"/>
            </p:cNvCxnSpPr>
            <p:nvPr/>
          </p:nvCxnSpPr>
          <p:spPr>
            <a:xfrm flipV="1">
              <a:off x="4571280" y="4001040"/>
              <a:ext cx="3960" cy="828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1030"/>
            <p:cNvCxnSpPr>
              <a:stCxn id="114" idx="0"/>
              <a:endCxn id="110" idx="2"/>
            </p:cNvCxnSpPr>
            <p:nvPr/>
          </p:nvCxnSpPr>
          <p:spPr>
            <a:xfrm flipH="1" flipV="1" rot="5400000">
              <a:off x="2620080" y="2877120"/>
              <a:ext cx="828000" cy="3075480"/>
            </a:xfrm>
            <a:prstGeom prst="bentConnector3">
              <a:avLst>
                <a:gd name="adj1" fmla="val 1378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0" name="_s1031"/>
            <p:cNvSpPr/>
            <p:nvPr/>
          </p:nvSpPr>
          <p:spPr>
            <a:xfrm>
              <a:off x="3254040" y="2346480"/>
              <a:ext cx="2635200" cy="165492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Пищеварительные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железы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032"/>
            <p:cNvSpPr/>
            <p:nvPr/>
          </p:nvSpPr>
          <p:spPr>
            <a:xfrm>
              <a:off x="179280" y="4829040"/>
              <a:ext cx="2635200" cy="165492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33"/>
            <p:cNvSpPr/>
            <p:nvPr/>
          </p:nvSpPr>
          <p:spPr>
            <a:xfrm>
              <a:off x="3254040" y="4829040"/>
              <a:ext cx="2635200" cy="165492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печень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4"/>
            <p:cNvSpPr/>
            <p:nvPr/>
          </p:nvSpPr>
          <p:spPr>
            <a:xfrm>
              <a:off x="6328800" y="4829040"/>
              <a:ext cx="2635200" cy="165492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Подумайте!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692000" y="3962160"/>
            <a:ext cx="653724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вещества, находящиеся в пище, не нуждаются в пищеварительной обработ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6732720" y="1484280"/>
            <a:ext cx="2109600" cy="22338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38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Строение ротовой полост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9" name="Picture 10" descr="1"/>
          <p:cNvPicPr/>
          <p:nvPr/>
        </p:nvPicPr>
        <p:blipFill>
          <a:blip r:embed="rId1"/>
          <a:stretch/>
        </p:blipFill>
        <p:spPr>
          <a:xfrm>
            <a:off x="2627280" y="2571840"/>
            <a:ext cx="3816360" cy="33177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полните схему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21" name="Diagram 7"/>
          <p:cNvGrpSpPr/>
          <p:nvPr/>
        </p:nvGrpSpPr>
        <p:grpSpPr>
          <a:xfrm>
            <a:off x="2630520" y="1697040"/>
            <a:ext cx="3813120" cy="4240080"/>
            <a:chOff x="2630520" y="1697040"/>
            <a:chExt cx="3813120" cy="4240080"/>
          </a:xfrm>
        </p:grpSpPr>
        <p:sp>
          <p:nvSpPr>
            <p:cNvPr id="122" name="_s2052"/>
            <p:cNvSpPr/>
            <p:nvPr/>
          </p:nvSpPr>
          <p:spPr>
            <a:xfrm flipH="1" flipV="1">
              <a:off x="3614760" y="3284280"/>
              <a:ext cx="463680" cy="26964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2053"/>
            <p:cNvSpPr/>
            <p:nvPr/>
          </p:nvSpPr>
          <p:spPr>
            <a:xfrm>
              <a:off x="2630520" y="2494080"/>
              <a:ext cx="1058760" cy="10587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2054"/>
            <p:cNvSpPr/>
            <p:nvPr/>
          </p:nvSpPr>
          <p:spPr>
            <a:xfrm flipH="1">
              <a:off x="3614760" y="4081320"/>
              <a:ext cx="465120" cy="26676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2055"/>
            <p:cNvSpPr/>
            <p:nvPr/>
          </p:nvSpPr>
          <p:spPr>
            <a:xfrm>
              <a:off x="2630520" y="4083120"/>
              <a:ext cx="1058760" cy="10587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2056"/>
            <p:cNvSpPr/>
            <p:nvPr/>
          </p:nvSpPr>
          <p:spPr>
            <a:xfrm>
              <a:off x="4535640" y="4343400"/>
              <a:ext cx="1440" cy="53640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2057"/>
            <p:cNvSpPr/>
            <p:nvPr/>
          </p:nvSpPr>
          <p:spPr>
            <a:xfrm>
              <a:off x="4006800" y="4878360"/>
              <a:ext cx="1058760" cy="10587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2058"/>
            <p:cNvSpPr/>
            <p:nvPr/>
          </p:nvSpPr>
          <p:spPr>
            <a:xfrm>
              <a:off x="4992840" y="4079880"/>
              <a:ext cx="463320" cy="26820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2059"/>
            <p:cNvSpPr/>
            <p:nvPr/>
          </p:nvSpPr>
          <p:spPr>
            <a:xfrm>
              <a:off x="5384880" y="4083120"/>
              <a:ext cx="1058760" cy="10587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2060"/>
            <p:cNvSpPr/>
            <p:nvPr/>
          </p:nvSpPr>
          <p:spPr>
            <a:xfrm flipV="1">
              <a:off x="4992840" y="3285720"/>
              <a:ext cx="463320" cy="26676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2061"/>
            <p:cNvSpPr/>
            <p:nvPr/>
          </p:nvSpPr>
          <p:spPr>
            <a:xfrm>
              <a:off x="5384880" y="2492280"/>
              <a:ext cx="1058760" cy="10591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2062"/>
            <p:cNvSpPr/>
            <p:nvPr/>
          </p:nvSpPr>
          <p:spPr>
            <a:xfrm flipV="1">
              <a:off x="4535640" y="2754360"/>
              <a:ext cx="0" cy="53496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2063"/>
            <p:cNvSpPr/>
            <p:nvPr/>
          </p:nvSpPr>
          <p:spPr>
            <a:xfrm>
              <a:off x="4006800" y="1697040"/>
              <a:ext cx="1058760" cy="10587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2064"/>
            <p:cNvSpPr/>
            <p:nvPr/>
          </p:nvSpPr>
          <p:spPr>
            <a:xfrm>
              <a:off x="4006800" y="3289320"/>
              <a:ext cx="1058760" cy="10587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Стро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Ротово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пол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in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24000" y="27756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1476360" y="404640"/>
            <a:ext cx="7199280" cy="9144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оение зуб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179280" y="549360"/>
            <a:ext cx="1584360" cy="1150920"/>
          </a:xfrm>
          <a:prstGeom prst="foldedCorner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учебни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2" descr="внутреннее строение зуба"/>
          <p:cNvPicPr/>
          <p:nvPr/>
        </p:nvPicPr>
        <p:blipFill>
          <a:blip r:embed="rId1"/>
          <a:stretch/>
        </p:blipFill>
        <p:spPr>
          <a:xfrm>
            <a:off x="3348000" y="2421000"/>
            <a:ext cx="3738600" cy="3738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image0030"/>
          <p:cNvPicPr/>
          <p:nvPr/>
        </p:nvPicPr>
        <p:blipFill>
          <a:blip r:embed="rId1"/>
          <a:stretch/>
        </p:blipFill>
        <p:spPr>
          <a:xfrm>
            <a:off x="3059280" y="2997360"/>
            <a:ext cx="3600360" cy="233172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3"/>
          <p:cNvSpPr/>
          <p:nvPr/>
        </p:nvSpPr>
        <p:spPr>
          <a:xfrm>
            <a:off x="755640" y="404640"/>
            <a:ext cx="7920000" cy="9144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880560" y="417600"/>
            <a:ext cx="73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болевания зубов и полости р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0T12:31:26Z</dcterms:created>
  <dc:creator>USER</dc:creator>
  <dc:description/>
  <dc:language>en-US</dc:language>
  <cp:lastModifiedBy>Сизова</cp:lastModifiedBy>
  <dcterms:modified xsi:type="dcterms:W3CDTF">2024-09-27T09:04:38Z</dcterms:modified>
  <cp:revision>31</cp:revision>
  <dc:subject/>
  <dc:title>Тема урока:</dc:title>
</cp:coreProperties>
</file>