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54.jpeg" ContentType="image/jpeg"/>
  <Override PartName="/ppt/media/image19.jpeg" ContentType="image/jpeg"/>
  <Override PartName="/ppt/media/image42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28.gif" ContentType="image/gi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9.png" ContentType="image/png"/>
  <Override PartName="/ppt/media/image15.wmf" ContentType="image/x-wmf"/>
  <Override PartName="/ppt/media/image41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.jpeg" ContentType="image/jpeg"/>
  <Override PartName="/ppt/media/image37.jpeg" ContentType="image/jpeg"/>
  <Override PartName="/ppt/media/image24.gif" ContentType="image/gif"/>
  <Override PartName="/ppt/media/image32.jpeg" ContentType="image/jpeg"/>
  <Override PartName="/ppt/media/image36.jpeg" ContentType="image/jpeg"/>
  <Override PartName="/ppt/media/image11.jpeg" ContentType="image/jpeg"/>
  <Override PartName="/ppt/media/image39.jpeg" ContentType="image/jpeg"/>
  <Override PartName="/ppt/media/image43.jpeg" ContentType="image/jpeg"/>
  <Override PartName="/ppt/media/image56.gif" ContentType="image/gif"/>
  <Override PartName="/ppt/media/image47.jpeg" ContentType="image/jpeg"/>
  <Override PartName="/ppt/media/image48.jpeg" ContentType="image/jpeg"/>
  <Override PartName="/ppt/media/image51.jpeg" ContentType="image/jpeg"/>
  <Override PartName="/ppt/media/image55.gif" ContentType="image/gif"/>
  <Override PartName="/ppt/media/image34.jpeg" ContentType="image/jpeg"/>
  <Override PartName="/ppt/media/image44.gif" ContentType="image/gif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57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27.jpeg" ContentType="image/jpeg"/>
  <Override PartName="/ppt/media/image50.jpeg" ContentType="image/jpeg"/>
  <Override PartName="/ppt/media/image4.png" ContentType="image/png"/>
  <Override PartName="/ppt/media/image12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864-B5C1-4CF5-8952-9DE2F097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8A3-075B-4A49-B25B-A16F35C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B9B-9D35-4CB7-B7F9-15A36772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D53-2C0B-43E9-A373-5A8D3933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42C-1372-4A03-AF52-8B22B636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63E-CE92-4681-AFA8-83A3A6E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298-C1EE-46CA-A320-56BA65D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A7D-FD2E-4BDD-BB46-138C26D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A3F-89CF-42CA-B51F-8946485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1A3-E19F-49B6-9C12-20A5949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24E-E6CF-455D-AA53-21007E8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6E5-7F81-4D33-A2D1-4E10405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730-8F7D-4075-B04B-FE57B5599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 здоровье и пит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: учитель би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зова Н.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00000" y="33336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мар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4376880" y="2548080"/>
            <a:ext cx="390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WordArt 5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40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42920" y="1700280"/>
            <a:ext cx="309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Уме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необходима для соблюдения баланса между поступающей с пищей и расходуемой в процессе жизнедеятельности энергией.  Установлено, что в среднем при основном обмене затрачивается около 1 ккал на 1 кг массы тела за 1 ч. У людей, постоянно испытывающих физические нагрузки, основ- ной обмен, как правило, повышается в пределах 30%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199210"/>
          <p:cNvPicPr/>
          <p:nvPr/>
        </p:nvPicPr>
        <p:blipFill>
          <a:blip r:embed="rId2"/>
          <a:stretch/>
        </p:blipFill>
        <p:spPr>
          <a:xfrm>
            <a:off x="611280" y="4365720"/>
            <a:ext cx="1801800" cy="1989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708360" y="1773360"/>
            <a:ext cx="28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76720" y="1773360"/>
            <a:ext cx="302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492360" y="1844640"/>
            <a:ext cx="2808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132000" y="1773360"/>
            <a:ext cx="28800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е нашей планеты  использует для питания тысячи пищевых продуктов и ещё больше кулинарных блюд. Энергетическая ценность рациона питания зависит от входящих в его состав белков, жиров, углеводов, витаминов, мин веществ и воды. Оптимальным в рационе здорового человека считается соотношение белков, жиров и углеводов, близкое к 1:1,2:4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j0198031"/>
          <p:cNvPicPr/>
          <p:nvPr/>
        </p:nvPicPr>
        <p:blipFill>
          <a:blip r:embed="rId3"/>
          <a:stretch/>
        </p:blipFill>
        <p:spPr>
          <a:xfrm>
            <a:off x="3500280" y="4857840"/>
            <a:ext cx="2087640" cy="1563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084720" y="177336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ежим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жим питания человека обычно регулируется аппетитом. Но необходимо иметь в виду, что аппетит сохраняется даже после приема пищи. Это связано с необходимостью переваривания и всасывания пищевых веществ. И только после начала поступления их в кровь возбуждение пищевого центра начинает сменяться его тормож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j0234131"/>
          <p:cNvPicPr/>
          <p:nvPr/>
        </p:nvPicPr>
        <p:blipFill>
          <a:blip r:embed="rId4"/>
          <a:stretch/>
        </p:blipFill>
        <p:spPr>
          <a:xfrm>
            <a:off x="6732720" y="4724280"/>
            <a:ext cx="1614240" cy="1717920"/>
          </a:xfrm>
          <a:prstGeom prst="rect">
            <a:avLst/>
          </a:prstGeom>
          <a:ln w="0">
            <a:noFill/>
          </a:ln>
        </p:spPr>
      </p:pic>
      <p:sp>
        <p:nvSpPr>
          <p:cNvPr id="72" name="Line 15"/>
          <p:cNvSpPr/>
          <p:nvPr/>
        </p:nvSpPr>
        <p:spPr>
          <a:xfrm flipH="1">
            <a:off x="1835280" y="1125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5940360" y="981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472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ергозатраты «стандартного человека» массой 60 к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785880"/>
          <a:ext cx="8429400" cy="5851440"/>
        </p:xfrm>
        <a:graphic>
          <a:graphicData uri="http://schemas.openxmlformats.org/drawingml/2006/table">
            <a:tbl>
              <a:tblPr/>
              <a:tblGrid>
                <a:gridCol w="5214960"/>
                <a:gridCol w="321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энергии, ккал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, лежа без 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и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яя работа (мытье посуды, глажка, убор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 – 2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т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 – 1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«трусц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лыж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0 – 3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зда на велосип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0 – 5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ние на конь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5143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нергозатраты организма зависят о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ояния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школьные работы\классный час\здоровое питание\люди\Ф.П.мл.об.jpg"/>
          <p:cNvPicPr/>
          <p:nvPr/>
        </p:nvPicPr>
        <p:blipFill>
          <a:blip r:embed="rId1"/>
          <a:stretch/>
        </p:blipFill>
        <p:spPr>
          <a:xfrm>
            <a:off x="6858000" y="182520"/>
            <a:ext cx="2001960" cy="288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:\школьные работы\классный час\здоровое питание\люди\133254_12_572_ArtFile_ru.jpg"/>
          <p:cNvPicPr/>
          <p:nvPr/>
        </p:nvPicPr>
        <p:blipFill>
          <a:blip r:embed="rId2"/>
          <a:stretch/>
        </p:blipFill>
        <p:spPr>
          <a:xfrm>
            <a:off x="6858000" y="3500280"/>
            <a:ext cx="2035080" cy="3144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школьные работы\классный час\здоровое питание\Sport\fedo_146.jpg"/>
          <p:cNvPicPr/>
          <p:nvPr/>
        </p:nvPicPr>
        <p:blipFill>
          <a:blip r:embed="rId3"/>
          <a:stretch/>
        </p:blipFill>
        <p:spPr>
          <a:xfrm>
            <a:off x="3500280" y="4214880"/>
            <a:ext cx="3071880" cy="241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классный час\здоровое питание\ЛЮДИ\people069.gif"/>
          <p:cNvPicPr/>
          <p:nvPr/>
        </p:nvPicPr>
        <p:blipFill>
          <a:blip r:embed="rId4"/>
          <a:stretch/>
        </p:blipFill>
        <p:spPr>
          <a:xfrm>
            <a:off x="214200" y="4214880"/>
            <a:ext cx="312912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2920" y="42876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рганизм человека ежедневно нуждается в строго определенном количестве вещест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белков составляет  10 – 15 % (60 – 80 г) – это  основной строительный  материал орган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жиров  - 15 – 30 % (60 – 80 г) – это  энергоемкие компоненты пищи, которые служат растворителями витаминов А,Д, Е, К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глеводов – 55 – 75 % (350 – 400 г) – основной топливны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и витамины – способствуют обмену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классный час\здоровое питание\ЕДА\izbitok2.jpg"/>
          <p:cNvPicPr/>
          <p:nvPr/>
        </p:nvPicPr>
        <p:blipFill>
          <a:blip r:embed="rId1"/>
          <a:stretch/>
        </p:blipFill>
        <p:spPr>
          <a:xfrm>
            <a:off x="6143760" y="464328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должно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ым (3 – 4 раза в сутк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ым (в одно и тоже врем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8588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прием пищи должен быть не позднее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– 3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классный час\здоровое питание\ЕДА\20071023_3(2).jpg"/>
          <p:cNvPicPr/>
          <p:nvPr/>
        </p:nvPicPr>
        <p:blipFill>
          <a:blip r:embed="rId1"/>
          <a:stretch/>
        </p:blipFill>
        <p:spPr>
          <a:xfrm>
            <a:off x="3714840" y="2571840"/>
            <a:ext cx="5222880" cy="307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999720"/>
            <a:ext cx="6572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рушение режима питания оказывает отрицательное влияние на многие органы и системы орган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Редкие приемы пищ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збуждают аппети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гнетают функцию щитовидной желез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зывают застой жел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насыщенного жира способствуе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злокачественных новообразова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ию артериального дав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атеросклеро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болеваниям желчного пузы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поваренной сол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ушает сосуды и слизистую желуд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едет к развитию гипертонической боле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остаток в пище витаминов и микроэлементов приводит к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D:\классный час\здоровое питание\ЛЮДИ\gallery_2_385_44527.gif"/>
          <p:cNvPicPr/>
          <p:nvPr/>
        </p:nvPicPr>
        <p:blipFill>
          <a:blip r:embed="rId1"/>
          <a:stretch/>
        </p:blipFill>
        <p:spPr>
          <a:xfrm>
            <a:off x="6715080" y="1285920"/>
            <a:ext cx="1771560" cy="221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классный час\здоровое питание\ЛЮДИ\84769c4605e0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14320" cy="20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сканирование0001.jpg"/>
          <p:cNvPicPr/>
          <p:nvPr/>
        </p:nvPicPr>
        <p:blipFill>
          <a:blip r:embed="rId1"/>
          <a:stretch/>
        </p:blipFill>
        <p:spPr>
          <a:xfrm>
            <a:off x="1500120" y="1230480"/>
            <a:ext cx="614376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дорового пит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632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ять   разнообразные продукты. При приеме пищи есть хлеб, крупяные и макаронные изделия, рис и картоф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раз в день есть овощи и фрукты (500 г в день). Предпочтение отдавать продуктам местного произво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треблять молоко и молочные продукты с низким содержанием жира и соли: кефир, кислое молоко, сыр, йогур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менять мясо и мясные продукты с высоким содержанием жира на бобовые, рыбу, птицу, яйца, нежирные сорта мя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«видимого» жира в кашах и бутербродах, выбирать мясомолочные продукты с низким содержанием жи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сахаров: сладостей, кондитерских изделий, сладких напитков, десер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требление поваренной соли – 1 чайная ложка в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йода восполняется йодированной соль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классный час\здоровое питание\ЕДА\63560.jpg"/>
          <p:cNvPicPr/>
          <p:nvPr/>
        </p:nvPicPr>
        <p:blipFill>
          <a:blip r:embed="rId1"/>
          <a:stretch/>
        </p:blipFill>
        <p:spPr>
          <a:xfrm>
            <a:off x="6715080" y="3705120"/>
            <a:ext cx="2266920" cy="29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8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одель здоров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5" descr="ris4_22.jpg"/>
          <p:cNvPicPr/>
          <p:nvPr/>
        </p:nvPicPr>
        <p:blipFill>
          <a:blip r:embed="rId1"/>
          <a:stretch/>
        </p:blipFill>
        <p:spPr>
          <a:xfrm>
            <a:off x="2143080" y="1428840"/>
            <a:ext cx="4857840" cy="400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ассный час\здоровое питание\ЕДА\eda77.gif"/>
          <p:cNvPicPr/>
          <p:nvPr/>
        </p:nvPicPr>
        <p:blipFill>
          <a:blip r:embed="rId2"/>
          <a:stretch/>
        </p:blipFill>
        <p:spPr>
          <a:xfrm>
            <a:off x="6858000" y="5143680"/>
            <a:ext cx="2128680" cy="157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дукты можно разделить на 6 груп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10"/>
          <p:cNvSpPr/>
          <p:nvPr/>
        </p:nvSpPr>
        <p:spPr>
          <a:xfrm>
            <a:off x="428760" y="1928880"/>
            <a:ext cx="3786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428760" y="3357720"/>
            <a:ext cx="37144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2"/>
          <p:cNvSpPr/>
          <p:nvPr/>
        </p:nvSpPr>
        <p:spPr>
          <a:xfrm>
            <a:off x="428760" y="4714920"/>
            <a:ext cx="3714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3"/>
          <p:cNvSpPr/>
          <p:nvPr/>
        </p:nvSpPr>
        <p:spPr>
          <a:xfrm>
            <a:off x="4429080" y="192888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4"/>
          <p:cNvSpPr/>
          <p:nvPr/>
        </p:nvSpPr>
        <p:spPr>
          <a:xfrm>
            <a:off x="4500720" y="3357720"/>
            <a:ext cx="41432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5"/>
          <p:cNvSpPr/>
          <p:nvPr/>
        </p:nvSpPr>
        <p:spPr>
          <a:xfrm>
            <a:off x="4500720" y="4714920"/>
            <a:ext cx="4143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3279600" y="128520"/>
            <a:ext cx="5443560" cy="231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2"/>
          <p:cNvSpPr/>
          <p:nvPr/>
        </p:nvSpPr>
        <p:spPr>
          <a:xfrm>
            <a:off x="285840" y="357120"/>
            <a:ext cx="835812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классный час\здоровое питание\ЕДА\01.jpg"/>
          <p:cNvPicPr/>
          <p:nvPr/>
        </p:nvPicPr>
        <p:blipFill>
          <a:blip r:embed="rId1"/>
          <a:stretch/>
        </p:blipFill>
        <p:spPr>
          <a:xfrm>
            <a:off x="285840" y="1643040"/>
            <a:ext cx="271440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классный час\здоровое питание\ЕДА\im30_19532.jpg"/>
          <p:cNvPicPr/>
          <p:nvPr/>
        </p:nvPicPr>
        <p:blipFill>
          <a:blip r:embed="rId2"/>
          <a:stretch/>
        </p:blipFill>
        <p:spPr>
          <a:xfrm>
            <a:off x="3143160" y="2857680"/>
            <a:ext cx="2214720" cy="388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:\классный час\здоровое питание\ЕДА\L21p1p02.jpg"/>
          <p:cNvPicPr/>
          <p:nvPr/>
        </p:nvPicPr>
        <p:blipFill>
          <a:blip r:embed="rId3"/>
          <a:stretch/>
        </p:blipFill>
        <p:spPr>
          <a:xfrm>
            <a:off x="5500800" y="15717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1"/>
          <p:cNvSpPr/>
          <p:nvPr/>
        </p:nvSpPr>
        <p:spPr>
          <a:xfrm>
            <a:off x="357120" y="357120"/>
            <a:ext cx="84297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:\классный час\здоровое питание\ЕДА\L22p1p05.jpg"/>
          <p:cNvPicPr/>
          <p:nvPr/>
        </p:nvPicPr>
        <p:blipFill>
          <a:blip r:embed="rId1"/>
          <a:stretch/>
        </p:blipFill>
        <p:spPr>
          <a:xfrm>
            <a:off x="428760" y="1714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классный час\здоровое питание\ЕДА\L22w2p00.jpg"/>
          <p:cNvPicPr/>
          <p:nvPr/>
        </p:nvPicPr>
        <p:blipFill>
          <a:blip r:embed="rId2"/>
          <a:stretch/>
        </p:blipFill>
        <p:spPr>
          <a:xfrm>
            <a:off x="5286240" y="3983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:\классный час\здоровое питание\ЕДА\L21W2p04.jpg"/>
          <p:cNvPicPr/>
          <p:nvPr/>
        </p:nvPicPr>
        <p:blipFill>
          <a:blip r:embed="rId3"/>
          <a:stretch/>
        </p:blipFill>
        <p:spPr>
          <a:xfrm>
            <a:off x="5214960" y="1714680"/>
            <a:ext cx="364500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:\классный час\здоровое питание\ЕДА\L22p2p07.jpg"/>
          <p:cNvPicPr/>
          <p:nvPr/>
        </p:nvPicPr>
        <p:blipFill>
          <a:blip r:embed="rId4"/>
          <a:stretch/>
        </p:blipFill>
        <p:spPr>
          <a:xfrm>
            <a:off x="500040" y="4535640"/>
            <a:ext cx="3500640" cy="214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2"/>
          <p:cNvSpPr/>
          <p:nvPr/>
        </p:nvSpPr>
        <p:spPr>
          <a:xfrm>
            <a:off x="28584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:\классный час\здоровое питание\ЕДА\19903.jpg"/>
          <p:cNvPicPr/>
          <p:nvPr/>
        </p:nvPicPr>
        <p:blipFill>
          <a:blip r:embed="rId1"/>
          <a:stretch/>
        </p:blipFill>
        <p:spPr>
          <a:xfrm>
            <a:off x="285840" y="1714680"/>
            <a:ext cx="2928960" cy="236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D:\классный час\здоровое питание\ЕДА\930836544.jpg"/>
          <p:cNvPicPr/>
          <p:nvPr/>
        </p:nvPicPr>
        <p:blipFill>
          <a:blip r:embed="rId2"/>
          <a:stretch/>
        </p:blipFill>
        <p:spPr>
          <a:xfrm>
            <a:off x="285840" y="429408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классный час\здоровое питание\ЕДА\document_1422_citrus.jpg"/>
          <p:cNvPicPr/>
          <p:nvPr/>
        </p:nvPicPr>
        <p:blipFill>
          <a:blip r:embed="rId3"/>
          <a:stretch/>
        </p:blipFill>
        <p:spPr>
          <a:xfrm>
            <a:off x="3429000" y="171468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классный час\здоровое питание\ЕДА\post-24800-1201107130.jpg"/>
          <p:cNvPicPr/>
          <p:nvPr/>
        </p:nvPicPr>
        <p:blipFill>
          <a:blip r:embed="rId4"/>
          <a:stretch/>
        </p:blipFill>
        <p:spPr>
          <a:xfrm>
            <a:off x="3429000" y="4286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классный час\здоровое питание\ЕДА\L21p8p03.jpg"/>
          <p:cNvPicPr/>
          <p:nvPr/>
        </p:nvPicPr>
        <p:blipFill>
          <a:blip r:embed="rId5"/>
          <a:stretch/>
        </p:blipFill>
        <p:spPr>
          <a:xfrm>
            <a:off x="6429240" y="171468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:\классный час\здоровое питание\ЕДА\1.jpg"/>
          <p:cNvPicPr/>
          <p:nvPr/>
        </p:nvPicPr>
        <p:blipFill>
          <a:blip r:embed="rId6"/>
          <a:stretch/>
        </p:blipFill>
        <p:spPr>
          <a:xfrm>
            <a:off x="6429240" y="4286160"/>
            <a:ext cx="25354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"/>
          <p:cNvSpPr/>
          <p:nvPr/>
        </p:nvSpPr>
        <p:spPr>
          <a:xfrm>
            <a:off x="35712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D:\классный час\здоровое питание\ЕДА\eu033121.jpg"/>
          <p:cNvPicPr/>
          <p:nvPr/>
        </p:nvPicPr>
        <p:blipFill>
          <a:blip r:embed="rId1"/>
          <a:stretch/>
        </p:blipFill>
        <p:spPr>
          <a:xfrm>
            <a:off x="285840" y="17146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классный час\здоровое питание\ЕДА\big_pamyatniki_produktyi_pitaniya_1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95640" cy="220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:\классный час\здоровое питание\ЕДА\337.GIF"/>
          <p:cNvPicPr/>
          <p:nvPr/>
        </p:nvPicPr>
        <p:blipFill>
          <a:blip r:embed="rId3"/>
          <a:stretch/>
        </p:blipFill>
        <p:spPr>
          <a:xfrm>
            <a:off x="3000240" y="1785960"/>
            <a:ext cx="2519640" cy="21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:\классный час\здоровое питание\ЕДА\L21W2p03.jpg"/>
          <p:cNvPicPr/>
          <p:nvPr/>
        </p:nvPicPr>
        <p:blipFill>
          <a:blip r:embed="rId4"/>
          <a:stretch/>
        </p:blipFill>
        <p:spPr>
          <a:xfrm>
            <a:off x="5643720" y="43228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D:\классный час\здоровое питание\ЕДА\tn_gallery_2_39_37747.png"/>
          <p:cNvPicPr/>
          <p:nvPr/>
        </p:nvPicPr>
        <p:blipFill>
          <a:blip r:embed="rId5"/>
          <a:stretch/>
        </p:blipFill>
        <p:spPr>
          <a:xfrm>
            <a:off x="571680" y="5072040"/>
            <a:ext cx="1904760" cy="160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D:\классный час\здоровое питание\ЕДА\1211737320_4.jpg"/>
          <p:cNvPicPr/>
          <p:nvPr/>
        </p:nvPicPr>
        <p:blipFill>
          <a:blip r:embed="rId6"/>
          <a:stretch/>
        </p:blipFill>
        <p:spPr>
          <a:xfrm>
            <a:off x="3071880" y="4214880"/>
            <a:ext cx="242892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1"/>
          <p:cNvSpPr/>
          <p:nvPr/>
        </p:nvSpPr>
        <p:spPr>
          <a:xfrm>
            <a:off x="285840" y="357120"/>
            <a:ext cx="857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классный час\здоровое питание\ЕДА\L21p1p01.jpg"/>
          <p:cNvPicPr/>
          <p:nvPr/>
        </p:nvPicPr>
        <p:blipFill>
          <a:blip r:embed="rId1"/>
          <a:stretch/>
        </p:blipFill>
        <p:spPr>
          <a:xfrm>
            <a:off x="285840" y="178596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:\классный час\здоровое питание\ЕДА\Eda_103.jpg"/>
          <p:cNvPicPr/>
          <p:nvPr/>
        </p:nvPicPr>
        <p:blipFill>
          <a:blip r:embed="rId2"/>
          <a:stretch/>
        </p:blipFill>
        <p:spPr>
          <a:xfrm>
            <a:off x="285840" y="442908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:\классный час\здоровое питание\ЕДА\dabe328e-c78c-4192-8ea8-9bc48341abdb.jpg"/>
          <p:cNvPicPr/>
          <p:nvPr/>
        </p:nvPicPr>
        <p:blipFill>
          <a:blip r:embed="rId3"/>
          <a:stretch/>
        </p:blipFill>
        <p:spPr>
          <a:xfrm>
            <a:off x="3714840" y="1714680"/>
            <a:ext cx="5214960" cy="253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классный час\здоровое питание\ЕДА\803.jpg"/>
          <p:cNvPicPr/>
          <p:nvPr/>
        </p:nvPicPr>
        <p:blipFill>
          <a:blip r:embed="rId4"/>
          <a:stretch/>
        </p:blipFill>
        <p:spPr>
          <a:xfrm>
            <a:off x="6072120" y="4500720"/>
            <a:ext cx="2897280" cy="217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:\классный час\здоровое питание\ЕДА\19510256.JPG"/>
          <p:cNvPicPr/>
          <p:nvPr/>
        </p:nvPicPr>
        <p:blipFill>
          <a:blip r:embed="rId5"/>
          <a:stretch/>
        </p:blipFill>
        <p:spPr>
          <a:xfrm>
            <a:off x="3643200" y="4429080"/>
            <a:ext cx="2247840" cy="22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"/>
          <p:cNvSpPr/>
          <p:nvPr/>
        </p:nvSpPr>
        <p:spPr>
          <a:xfrm>
            <a:off x="285840" y="285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классный час\здоровое питание\ЕДА\L21W2p01.jpg"/>
          <p:cNvPicPr/>
          <p:nvPr/>
        </p:nvPicPr>
        <p:blipFill>
          <a:blip r:embed="rId1"/>
          <a:stretch/>
        </p:blipFill>
        <p:spPr>
          <a:xfrm>
            <a:off x="214200" y="171468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:\классный час\здоровое питание\ЕДА\L27w04p01.jpg"/>
          <p:cNvPicPr/>
          <p:nvPr/>
        </p:nvPicPr>
        <p:blipFill>
          <a:blip r:embed="rId2"/>
          <a:stretch/>
        </p:blipFill>
        <p:spPr>
          <a:xfrm>
            <a:off x="5357880" y="1643040"/>
            <a:ext cx="3422520" cy="2786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:\классный час\здоровое питание\ЕДА\eda51.gif"/>
          <p:cNvPicPr/>
          <p:nvPr/>
        </p:nvPicPr>
        <p:blipFill>
          <a:blip r:embed="rId3"/>
          <a:stretch/>
        </p:blipFill>
        <p:spPr>
          <a:xfrm>
            <a:off x="6572160" y="4643280"/>
            <a:ext cx="2247840" cy="20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D:\классный час\здоровое питание\ЕДА\drink32.gif"/>
          <p:cNvPicPr/>
          <p:nvPr/>
        </p:nvPicPr>
        <p:blipFill>
          <a:blip r:embed="rId4"/>
          <a:stretch/>
        </p:blipFill>
        <p:spPr>
          <a:xfrm>
            <a:off x="428760" y="48387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D:\классный час\здоровое питание\ЕДА\L23w01p00.jpg"/>
          <p:cNvPicPr/>
          <p:nvPr/>
        </p:nvPicPr>
        <p:blipFill>
          <a:blip r:embed="rId5"/>
          <a:stretch/>
        </p:blipFill>
        <p:spPr>
          <a:xfrm>
            <a:off x="3643200" y="4500720"/>
            <a:ext cx="157824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Журнал «Справочник классного руководителя»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Картинки  (автор и источник заимствования неизвест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влиянии питания на здоров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ценить свое питание и составить рацион в соответствии с принципами рациона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D:\классный час\здоровое питание\ЕДА\3361039.jpg"/>
          <p:cNvPicPr/>
          <p:nvPr/>
        </p:nvPicPr>
        <p:blipFill>
          <a:blip r:embed="rId1"/>
          <a:stretch/>
        </p:blipFill>
        <p:spPr>
          <a:xfrm>
            <a:off x="6000840" y="378612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ние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Помочь детям развивать в себе привычку к здоровому и творческ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ыработать умение правильно делать обоснованные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 концу занятия учащиеся должн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ладеть информацией о правильном пита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Быть убежденными,   что правильно питаться – более предпочтительн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классный час\здоровое питание\ЕДА\1207384170.jpg"/>
          <p:cNvPicPr/>
          <p:nvPr/>
        </p:nvPicPr>
        <p:blipFill>
          <a:blip r:embed="rId1"/>
          <a:stretch/>
        </p:blipFill>
        <p:spPr>
          <a:xfrm>
            <a:off x="6143760" y="4827600"/>
            <a:ext cx="2643120" cy="18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712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ье – это  самое главное в жизни. Это и счастье, радость, свобода, труд, спорт и общение с родными и друзьям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– сама  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классный час\здоровое питание\ЛЮДИ\dolet.jpg"/>
          <p:cNvPicPr/>
          <p:nvPr/>
        </p:nvPicPr>
        <p:blipFill>
          <a:blip r:embed="rId1"/>
          <a:stretch/>
        </p:blipFill>
        <p:spPr>
          <a:xfrm>
            <a:off x="4786200" y="215748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играет важную 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оддержании физического и психического здоровья челове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беспечении нормального эмоционального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классный час\здоровое питание\ЕДА\0_20a8d_f80fb384_L.gif"/>
          <p:cNvPicPr/>
          <p:nvPr/>
        </p:nvPicPr>
        <p:blipFill>
          <a:blip r:embed="rId1"/>
          <a:stretch/>
        </p:blipFill>
        <p:spPr>
          <a:xfrm>
            <a:off x="2928960" y="3033720"/>
            <a:ext cx="590544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7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035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324000" y="112536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Основные функции пита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м известно, что питание абсолютно необходимо для поддержания жизни. Наукой твердо установлены три функции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ерв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ается в снабжении организма энергией. В этом смысле человека можно сравнить с любой машиной, совершающей работу, но требующей для этого поступления топлива. Рациональное питание предусматривает примерный баланс поступающей в организм энергии и расходуемой на обеспечение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тор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пластическими веществами, к которым прежде всего относятся белки, в меньшей степени – минеральные вещества, жиры и в ещё меньшей степени – углеводы. Потребность в пластических веществах пищи варьирует в зависимости от возраста: у детей такая потребность повышена, а у пожилых людей пониж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Треть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биологически активными веществами, необходимыми для регуляции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Четверт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а выявлена учеными сравнительно недавно. Она заключается в выработке иммунитета, как неспецифического, так и специфического. Было установлено, что величина иммунного ответа на инфекцию зависит от качества питания и особенно от достаточного содержания в пище калорий, полноценных белков и витаминов.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:\классный час\здоровое питание\ЕДА\7.gif"/>
          <p:cNvPicPr/>
          <p:nvPr/>
        </p:nvPicPr>
        <p:blipFill>
          <a:blip r:embed="rId2"/>
          <a:stretch/>
        </p:blipFill>
        <p:spPr>
          <a:xfrm>
            <a:off x="6572160" y="5400720"/>
            <a:ext cx="214308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ильное питание необходимо для обеспе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кровет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иммунит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окой работоспособ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з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состояния кожных покров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школьные работы\классный час\здоровое питание\люди\L15w05p01.jpg"/>
          <p:cNvPicPr/>
          <p:nvPr/>
        </p:nvPicPr>
        <p:blipFill>
          <a:blip r:embed="rId1"/>
          <a:stretch/>
        </p:blipFill>
        <p:spPr>
          <a:xfrm>
            <a:off x="5429160" y="40719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ы рационального пит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нергетическое равновес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алансированное отношение белков, жиров, углеводов, минеральных веществ и витами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жим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785880" y="54291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ая ценность суточного рациона питания должна соответствовать энергозатратам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:\классный час\здоровое питание\ЕДА\kal_1.jpg"/>
          <p:cNvPicPr/>
          <p:nvPr/>
        </p:nvPicPr>
        <p:blipFill>
          <a:blip r:embed="rId1"/>
          <a:stretch/>
        </p:blipFill>
        <p:spPr>
          <a:xfrm>
            <a:off x="4929120" y="2482920"/>
            <a:ext cx="3452760" cy="281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0:44Z</dcterms:created>
  <dc:creator>жежик</dc:creator>
  <dc:description/>
  <dc:language>en-US</dc:language>
  <cp:lastModifiedBy>User</cp:lastModifiedBy>
  <dcterms:modified xsi:type="dcterms:W3CDTF">2014-12-08T14:52:20Z</dcterms:modified>
  <cp:revision>72</cp:revision>
  <dc:subject/>
  <dc:title>Слайд 1</dc:title>
</cp:coreProperties>
</file>